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CD9-378D-4BAC-8AD8-4C860E29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846-7AF5-41A2-AEF9-2C027E5B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8AA-8637-4876-841D-06F816B5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E47-8595-4CA8-A749-7F67E792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A82-0B64-4A75-AB00-57B003A5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1D03-C9EE-4C07-9DBC-FDDAADCB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38D1-4C5A-4137-8E4D-50BD945F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3541-AE2A-48E4-9148-DEA251ED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750-A82F-4411-8600-5E26058D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0295-2A79-4AED-9E58-7C570E6C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C5C9-467E-4E11-8938-F4309D69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B63-144C-4BB3-87C9-6E5C36A1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86F2-05FF-450F-AD1E-1DFDFB4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D93F-2DD5-4580-BEE4-E7B1E42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1283-5E33-462C-96E6-1622752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3EF5-EFBA-46A3-9B6D-5E98ECCC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2207-EF11-4AE9-A419-5B29F1A1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B7F-72D6-4A8A-B856-A2B07C85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402-2FC6-44F9-8C2D-12535B14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EEE-7EE8-49D4-AB81-37877038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8C9-9C21-4D15-BD19-4B9EF97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DDC-0468-4137-B777-3BD84B0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CD0-6808-4133-BBE8-20A47CE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B98-C810-43E4-8F44-04D2C56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593A-3C4B-4DAB-8875-0F71786FC30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2619-62EC-4D5A-AC3C-D7E13246F66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ur Feeling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2895120"/>
            <a:ext cx="564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appy,    Sad,    Ang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1057320" cy="1114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1238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ow do you feel, and why…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At school your friend is playing with someone else, you want to play too, but they said, “We don’t won’t to play with you”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ow do you feel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956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0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Comic Sans MS"/>
              </a:rPr>
              <a:t>You went to Mc Donald’s Restaurant with your family.  You got a Happy Meal and a free toy. Your baby sister/brother lost their free toy.  So, your mom ask you to give your toy to your brother/sister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ow would you feel?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8672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</a:t>
            </a:r>
            <a:r>
              <a:rPr b="1" lang="en-US" sz="2400" spc="-1" strike="noStrike">
                <a:solidFill>
                  <a:srgbClr val="f7d47d"/>
                </a:solidFill>
                <a:latin typeface="Comic Sans MS"/>
              </a:rPr>
              <a:t>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Comic Sans MS"/>
              </a:rPr>
              <a:t>You were playing outside with your friends. It was a hot day. Your mom brought a pitcher of Kool-aid to share with your friends.</a:t>
            </a: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ow would you feel and wh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625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Tell me how do you feel when hear this soun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 hear respon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2767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316400" y="2703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4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600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Tell me how do you feel when hear this soun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 hear respon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3526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9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Comic Sans MS"/>
              </a:rPr>
              <a:t>Click on the icons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Tell me two things that made you angr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Tell me who or what made you feel sa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What did momma do to make you happy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334120" y="2286000"/>
            <a:ext cx="123804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172200" y="3962520"/>
            <a:ext cx="105732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486400" y="5638680"/>
            <a:ext cx="905040" cy="609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33526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500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1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400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0:09:51Z</dcterms:created>
  <dc:creator>Greenville Schools</dc:creator>
  <dc:description/>
  <dc:language>en-US</dc:language>
  <cp:lastModifiedBy>NA</cp:lastModifiedBy>
  <dcterms:modified xsi:type="dcterms:W3CDTF">2008-02-16T21:14:47Z</dcterms:modified>
  <cp:revision>7</cp:revision>
  <dc:subject/>
  <dc:title>Our Feelings</dc:title>
</cp:coreProperties>
</file>